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2B9D-EF01-4FFD-B7F6-9EEE23400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9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9EE7-F24A-47CA-82AF-19AECFE9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1333-CC03-40AB-94CE-A6230A03E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7F26-1ABD-4475-9DE1-3965EEC89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7AFB-8758-4598-B6DC-A2FA6373C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0669-40D7-47E4-824D-784AB1D6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BB8D-21A0-4375-B727-A2648788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8890C-CA26-4B89-9B80-06D3C6C3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F5C8-B20C-4FA7-8D33-E006B2A1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23960" y="12952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1B841-6E31-4F2D-8606-ADE3DDCB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F2082-E25A-45F7-8AFD-4156EEDE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3C90-A5E9-48F6-BD8D-B73274C9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A64C-5BEF-4427-ADAB-B7F02E5C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7C33-04DE-4D8F-867E-89A7AA22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49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D61E-19D5-418A-9F7D-87DB8E03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906C-A82A-4CF0-BEF8-E607D5DE3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7AA7-201B-4AA6-A0F6-319BA03C0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C3FA-D4D2-4800-8759-87A86812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D498-B396-42FD-90B2-550204E6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C710-7622-4CD4-9723-62C68B40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3960" y="12952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928E-9AD5-4DD3-B6D3-736CA28A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FD5C-D61C-4F1E-8229-3B7E3D62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1A77-6ED2-40AF-912F-4D85B288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CF1D-CA56-41CB-9DD4-C4F2557C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39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622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912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0111-39D1-45F8-8411-E6F524A6E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295280" y="1701720"/>
            <a:ext cx="118080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9DB2-54FA-4564-8CA7-7E5A6786E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1980720"/>
            <a:ext cx="6095880" cy="142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CG 540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ced Accounting Informa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l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urse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you with the basic background and tools that will allow you t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acilitate and/or ass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evolution of contemporary accounting information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equires a solid understanding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which effective systems ar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signed and develop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ey compon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an effectiv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ntity-wide internal control syst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which efficien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atabase desig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used to improv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counting information f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the contemporary issues involved in providing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ssurance services for systems and database reliabi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in Understanding of XB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arily, to become consumers of information related to new technolo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roup Project Proc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’s &amp; Group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Evaluations (Who/wha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group member will evaluate every other group 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in term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tment to th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deal constructively with confli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participation in decision-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ability for assigned task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 of initiative or leadership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Evaluations (Whe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end of th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-100 point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 individual evaluation is a D or less (&lt; 67) your overall project score will be 0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 Invitation or Click “Join”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 if you haven’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e-mail for Inv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 address comes from e-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your 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a Picture (nice but not requir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your e-community pi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ve Web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Add material to any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Edit material already posted to a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Delete material posted to a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Create a new page with new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Pages, Podcasts, Video, Audio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396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iver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DFD sections of chapter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ed course agre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September 4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GH Problem 4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nderful Stuff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do this in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 Updating Wikispace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Things to Keep You Bu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thinking about team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nd your team members will be spending a lot of time together so choose wis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schedules of other prospective team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the team ch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ourse documents of 5405 Web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September 18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 Exp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the concepts of 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open the door. You enter by yourself”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old Chinese prover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ing the concepts (Group C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e have to learn to do, we learn by doing”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ristot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ing 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FD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D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ch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ing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B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llabus High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Steven Hor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shornik@bus.ucf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 Webpage: http://acg5405.wikispaces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e Hour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rsday 5:00-6:00; Tuesday 10:00 – 11:30  and by appoin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 (Yahoo): shor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use Meebo Widget in Wikisp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396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xt 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ing Information Systems 7th ed., by  Gelinas and D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countants Guide to XBRL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., by Clinton E 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only at http:www.skipwhit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A Gliffy Account – Web Based Modeling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 1 (G&amp;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Exam (XBRL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Pro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Assignment (4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ion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Po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ing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74284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 4.00 100-9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- 3.75 92-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+ 3.25 89-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 3.00 85-8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- 2.75 82-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+ 2.25 79-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 2.00 75-7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274284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- 1.75 72-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+ 1.25 69-6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 1.00 65-6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- 0.75 62-6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 0.00 &lt;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graded Assignments (UGH’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permitting we will do these in-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In Class, Ask Questions, New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W /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In Class, Prepared to discu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of p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-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solving / model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7T16:18:38Z</dcterms:created>
  <dc:creator>shornik</dc:creator>
  <dc:description/>
  <dc:language>en-US</dc:language>
  <cp:lastModifiedBy>Steven Hornik</cp:lastModifiedBy>
  <dcterms:modified xsi:type="dcterms:W3CDTF">2008-08-27T14:31:32Z</dcterms:modified>
  <cp:revision>55</cp:revision>
  <dc:subject/>
  <dc:title>ACG 5405 Intro</dc:title>
</cp:coreProperties>
</file>